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612d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781C9-6FA5-4478-8A99-9B16B0D76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7FE96-56D0-4FB1-A371-23912EA4BE99}" type="slidenum">
              <a:rPr b="0" lang="en-US" sz="1200" spc="-1" strike="noStrike">
                <a:solidFill>
                  <a:srgbClr val="31612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1612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2355-DBA7-4EA3-B994-C791CCFEF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4741-3A0A-4602-B90D-D7D5DA1B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2F86E0-6180-4D77-B474-C3FDD6B72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1AA7F1-1D7E-4E19-A0CB-72F0A97DE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9048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F4D215-5181-49E0-966C-9F62E53B5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A56BC2-3342-4C61-BA58-DDEDB13B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FA8253-5F2D-4720-927E-B3D28B0C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FC5355-7FCC-46A9-9B00-BF581C91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5C1F3D-B5BC-4E91-AA12-A7F05155E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F730AC-15C2-4E87-8069-4B40132C0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EF3C46-DB09-48D9-899D-EE8AD1FA8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8F4C75-4312-439F-8091-3DCFCEB57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7886-0AC8-4283-B2CD-188213643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9C1731-7414-4A9E-86CF-B3C879781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DF4B18-0784-4EBA-A937-F59DE754D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48D1FE-D3EC-4A68-BFE0-4DAD8FD3A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184FD8-CB53-4484-96D6-6122FACDD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9048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B881D1-D4DC-47FA-8742-716E0B03F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21BEDE-B679-4941-B080-FB775CD6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169428-BA80-41BB-B58B-FEE2F3CC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D75133-F063-4794-9FD5-51E1FCBE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C7A9DE-74E9-402B-B60A-F72110C09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5A83EC-F643-4CB9-94B3-87F2252B7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4C19-4180-484C-8FE3-442D4ACFC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BB995A-0E92-4B80-9282-39D028268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23093A-F267-4927-ACC0-64AED66CA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F07BB7-0D84-4E6A-AA56-30C61895A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C70861-79E1-42D2-8D5A-DD39C8CB3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9DCE87-54A9-4B73-88FF-6DB782E8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C25075-45FD-49CC-BC60-A0EBBD301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9048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BAA4CA-A7EC-44C8-BB9A-CC02B46F5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E8F62F-803F-4E9A-A0DA-BC50B152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0C42A9-28C8-4940-9E14-E98C28C4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774ED2-54A1-4C39-A9D5-1085D5BB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59034-1C64-4296-9405-36BDA88E6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FACA65-1A56-4325-A081-37FCCF547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E801BD-E9F6-4297-BA27-7C6D4714E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A57780-C249-48DA-BEF0-67DFE4DAF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4EEEBC-A683-4D29-A48B-DF4888410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1AD66E-8DC6-449F-BF30-06BB2FF1D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75C79A-24A3-40E4-863B-07244DEBC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708543-A475-4838-A320-5368CD9D8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E7F649-07D2-4B30-9CDA-63EAB0A9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9048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2A1B5D-8FFB-426C-B265-A89EB52E8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447078-D374-42BC-9558-EC9E5C2C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5A47B-83CD-4E89-BAC9-618CF2F61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D522F6-3D24-4BD5-9800-4E4FBD98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55F056-318F-455E-9697-3268833B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210CDC-C01C-425A-B791-152F028CC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062FA2-4793-4A49-A906-0228F3863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18891A-0697-4DD3-9EBE-7B76B7E45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ED1F2-E957-4386-89B0-D1ABD85B5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A982B-6FB0-4770-9530-BDE2D54D6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430E4-ACD9-4F7C-B66C-43EBB2215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9048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A9D1F-4ACD-4491-9140-07B6CC9DC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5F543-91EB-4494-B165-AE87C9C0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9735-C062-4998-9D8F-A08907F25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F3C56-1D2B-4D7C-AC20-4A4DD010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9AF8F-BB37-4442-8F92-2CEBF35F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FA5AA-3103-42A6-BD6F-FCBAA4114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F38EF-38A3-41B3-A0A0-B16E9938D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C1765-A980-4935-9D91-08270458D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7A157-313D-4C90-A329-FF791D5C7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AA742-0EED-4417-989A-BA94850F1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D7700-3C01-42A5-9140-CFD2940F0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40C78-2CFE-4C1A-9856-FA9D3F79B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93C8C-897D-4602-B081-2C7AEA25C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E443-1525-45F7-B8E5-94D9C0091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9048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1264D-9FD2-49C6-BB71-EFB565941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42044-AB32-4F20-A7CB-E888D44C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0CA9D-18D9-437E-AFFE-48563910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6C9BD-011C-464D-AFE1-DDDDBB8A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60F4B-18A8-41B2-8F3A-97E7F7D38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C1179-3F97-4376-8C5F-51D9F9DE3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F5DE4-2547-4571-8763-8DF603867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5F08E-DB00-447C-8812-7C1520DF4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8EB92-A184-4695-A21D-FF61E8119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05EDA-29CD-46DE-9E3F-4C20E09A7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7EF0-0E7D-4CBF-800A-FE6FEE66C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FB1C5-7190-41CC-8B5C-30B45329E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E85F1-E1BC-4A89-91EC-EA8A0E911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9048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399DF-0070-4602-8243-65A2F13BA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F9E87-0773-4D35-B932-81080F3A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CCE86-0CF0-4865-B5CE-4481FA5B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27C16-5276-4A49-916E-27F297AD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4A513-5AB1-49DA-8D24-B5CAC138C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51956-3F57-403D-8095-46E1DABC5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2C38D-F082-4AEF-8480-138158CE2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EE29E-0C0C-4586-AFD1-BE3D8D6B9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60B8-E493-4CA8-B6A0-C2C810789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6CE99-E664-41CA-A22A-4A9A5BAE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D1288-FFA0-4FF0-B817-2324012CE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B263A-E6F9-4F83-9CC8-0E9A8E7D1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9F1E3-1426-4A88-9660-8732B04A4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9048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A3272-6405-42F0-A46F-2B1DC8F36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F72C2-3305-42D6-AE12-B8BF7DD3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E0E61-8401-46A4-8645-AF83B53D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B7BBE-15AE-4BA8-B0B9-7668C219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C0B02-323F-4E58-B690-88166EAE4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DEA85-C5C1-4E26-9F36-01822BF74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9048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E4B7-A563-4ACC-B69D-7B98F48A0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48D87-BCF6-4750-8330-1ABFB300E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902B3-30FD-4DEC-A3F6-0A78BEFF4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A18E9-875B-4759-967A-3FA4A2598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7117B-D05C-4AEB-A1FD-933A03D61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DE75AB-7F14-4582-B8A2-7A91AD579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A157F6-C692-4217-B433-3EE03A5AF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9048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3A989-98C8-4CBD-BADE-EC6816139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F75B4-9E8A-42C8-8C75-7151C493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02BB70-2531-4F89-A38B-66B8CBE9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A7EE9-DB24-448B-B929-6EADDBB5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6FA7-F6F2-4249-8B93-444E89B2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D8D6F-EFAB-46A2-9E28-6E95155FE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0046F-C71A-4571-814D-E56B170F6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32A17-0EE3-4274-AA16-D7582CA85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C0A8BF-4DCF-4239-AC13-1074BDD0D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A2396E-4508-472E-98D4-7827E1203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C1783-4DFD-45A1-8048-9B088DC99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3E09C-B462-4D6B-9F21-C5E4F4509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EFD8DD-D420-49A4-8006-2759649AC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9048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C4476-15F8-4C15-8126-A4E5335A1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82330-DA5F-4D39-A710-6CFC98A2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9DA2-4F5F-407F-B359-C4F51918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45B74-1E8F-4885-B3BC-13331B54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B4E89-75D8-43B8-877D-84E7610B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F4A96-3909-4B63-B2F1-53EFF6321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AB31FC-C654-4751-8A6B-3EEF35930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EA4031-0F70-44B4-8AF1-BBB271FF6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D32C41-554A-4190-A6FB-E12F085AD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A42993-A341-4A17-9B36-7E554A983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2FF433-2254-4779-BC01-81B0B746B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9E0C00-7518-42E4-BFE3-84EDA4EAB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4CB3AF-6016-4BDD-8F02-08D4B4FD7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5C24-C20A-412A-AF6F-E24A45DE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9048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4BDC4-22C3-419E-AF78-2375D155A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A75192-5431-4B50-BC2B-13F324A4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79A2E6-7438-417A-8341-4BFB54BB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3EDFF5-997B-4278-942A-8347A284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2B7430-4F2F-48FE-84F7-8BEC7C11C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7E899C-8B11-42D2-9172-1E1486119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0A28A1-AACF-42C6-AB81-F9CE51D41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BE3F4E-48AD-4070-BA46-4BF7B2719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5006A5-CE9D-4657-9C47-29AEF959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181524-9D34-486C-97CC-4EC9D8CC0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612d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8ECC5-6FC6-4D06-AE9E-36EF61FDB5C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612d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F0770-9FA7-4170-BF97-977864B66A5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612d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34A1A-C5F6-470E-9AED-FADC4AFB7A7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612d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1612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CD42B-D8DD-4E54-A98C-9871DE2793C2}" type="slidenum">
              <a:rPr b="0" lang="en-US" sz="1000" spc="-1" strike="noStrike">
                <a:solidFill>
                  <a:srgbClr val="31612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612d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4dd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75B5E-5329-4448-B9DE-623FE1C5CB9B}" type="slidenum">
              <a:rPr b="0" lang="en-US" sz="1000" spc="-1" strike="noStrike">
                <a:solidFill>
                  <a:srgbClr val="c4ddc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612d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FBA02-0E7B-4152-B653-846C2B224C4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612d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209EB-4200-4268-88CF-F22686EE183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612d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D330D-0A95-46CA-A58D-1B0844DF696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612d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2E850-1CA9-4FED-9B6E-70FFFF6DFC2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612d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D8BCF-C876-4B41-8347-F77C741BAA9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612d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9B3F5-BAF1-485E-B728-27B55358699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612d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D0641-3909-44F4-868C-084E51CC6D7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769680"/>
            <a:ext cx="7772400" cy="433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c4ddc3"/>
                </a:solidFill>
                <a:latin typeface="Arial Black"/>
              </a:rPr>
              <a:t>Area and </a:t>
            </a:r>
            <a:r>
              <a:rPr b="1" lang="en-US" sz="9000" spc="-1" strike="noStrike">
                <a:solidFill>
                  <a:srgbClr val="c4ddc3"/>
                </a:solidFill>
                <a:latin typeface="Arial Black"/>
              </a:rPr>
              <a:t>Perimeter</a:t>
            </a:r>
            <a:endParaRPr b="1" lang="en-US" sz="90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500" name="Text Box 4"/>
          <p:cNvSpPr/>
          <p:nvPr/>
        </p:nvSpPr>
        <p:spPr>
          <a:xfrm>
            <a:off x="5863680" y="5181480"/>
            <a:ext cx="2814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612d"/>
                </a:solidFill>
                <a:latin typeface="Times New Roman"/>
              </a:rPr>
              <a:t>By Christine Berg</a:t>
            </a: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612d"/>
                </a:solidFill>
                <a:latin typeface="Times New Roman"/>
              </a:rPr>
              <a:t>Edited by V T Hamilton</a:t>
            </a:r>
            <a:endParaRPr b="0" lang="en-US" sz="2000" spc="-1" strike="noStrike">
              <a:solidFill>
                <a:srgbClr val="31612d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6320" y="91800"/>
            <a:ext cx="90676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10301"/>
                </a:solidFill>
                <a:latin typeface="Arial Black"/>
              </a:rPr>
              <a:t>Parallelogram</a:t>
            </a:r>
            <a:endParaRPr b="1" lang="en-US" sz="70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31612d"/>
                </a:solidFill>
                <a:latin typeface="Arial"/>
              </a:rPr>
              <a:t>The rectangle becomes a parallelogram so the formula is the similar to a rectangle.</a:t>
            </a:r>
            <a:endParaRPr b="0" lang="en-US" sz="5800" spc="-1" strike="noStrike">
              <a:solidFill>
                <a:srgbClr val="31612d"/>
              </a:solidFill>
              <a:latin typeface="Arial"/>
            </a:endParaRPr>
          </a:p>
          <a:p>
            <a:pPr marL="343080"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31612d"/>
                </a:solidFill>
                <a:latin typeface="Arial"/>
              </a:rPr>
              <a:t>A=bh</a:t>
            </a:r>
            <a:endParaRPr b="0" lang="en-US" sz="5800" spc="-1" strike="noStrike">
              <a:solidFill>
                <a:srgbClr val="31612d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76320" y="91800"/>
            <a:ext cx="90676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10301"/>
                </a:solidFill>
                <a:latin typeface="Arial Black"/>
              </a:rPr>
              <a:t>Triangle</a:t>
            </a:r>
            <a:endParaRPr b="1" lang="en-US" sz="70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31612d"/>
                </a:solidFill>
                <a:latin typeface="Arial"/>
              </a:rPr>
              <a:t>The area of a triangle is one half of the length of the base times the height since a triangle is half of a parallelogram.</a:t>
            </a:r>
            <a:endParaRPr b="0" lang="en-US" sz="5800" spc="-1" strike="noStrike">
              <a:solidFill>
                <a:srgbClr val="31612d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76320" y="91800"/>
            <a:ext cx="90676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10301"/>
                </a:solidFill>
                <a:latin typeface="Arial Black"/>
              </a:rPr>
              <a:t>Triangle</a:t>
            </a:r>
            <a:endParaRPr b="1" lang="en-US" sz="70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530" name="AutoShape 4"/>
          <p:cNvSpPr/>
          <p:nvPr/>
        </p:nvSpPr>
        <p:spPr>
          <a:xfrm rot="10771200">
            <a:off x="1980720" y="3276720"/>
            <a:ext cx="1905120" cy="1828800"/>
          </a:xfrm>
          <a:prstGeom prst="rtTriangle">
            <a:avLst/>
          </a:prstGeom>
          <a:solidFill>
            <a:srgbClr val="4a8a5b"/>
          </a:solidFill>
          <a:ln w="9360">
            <a:solidFill>
              <a:srgbClr val="316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31" name="AutoShape 9"/>
          <p:cNvSpPr/>
          <p:nvPr/>
        </p:nvSpPr>
        <p:spPr>
          <a:xfrm>
            <a:off x="1905120" y="3276720"/>
            <a:ext cx="1904760" cy="1828800"/>
          </a:xfrm>
          <a:prstGeom prst="rtTriangle">
            <a:avLst/>
          </a:prstGeom>
          <a:solidFill>
            <a:srgbClr val="8b1003"/>
          </a:solidFill>
          <a:ln w="9360">
            <a:solidFill>
              <a:srgbClr val="8b10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32" name="Text Box 10"/>
          <p:cNvSpPr/>
          <p:nvPr/>
        </p:nvSpPr>
        <p:spPr>
          <a:xfrm>
            <a:off x="1372680" y="396252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612d"/>
                </a:solidFill>
                <a:latin typeface="Times New Roman"/>
              </a:rPr>
              <a:t>4in</a:t>
            </a: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33" name="Line 11"/>
          <p:cNvSpPr/>
          <p:nvPr/>
        </p:nvSpPr>
        <p:spPr>
          <a:xfrm>
            <a:off x="1523880" y="4343400"/>
            <a:ext cx="0" cy="762120"/>
          </a:xfrm>
          <a:prstGeom prst="line">
            <a:avLst/>
          </a:prstGeom>
          <a:ln w="9360">
            <a:solidFill>
              <a:srgbClr val="316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34" name="Line 12"/>
          <p:cNvSpPr/>
          <p:nvPr/>
        </p:nvSpPr>
        <p:spPr>
          <a:xfrm flipV="1">
            <a:off x="1523880" y="3200040"/>
            <a:ext cx="0" cy="762120"/>
          </a:xfrm>
          <a:prstGeom prst="line">
            <a:avLst/>
          </a:prstGeom>
          <a:ln w="9360">
            <a:solidFill>
              <a:srgbClr val="316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35" name="Line 13"/>
          <p:cNvSpPr/>
          <p:nvPr/>
        </p:nvSpPr>
        <p:spPr>
          <a:xfrm flipH="1" flipV="1">
            <a:off x="1904760" y="5253840"/>
            <a:ext cx="609480" cy="5040"/>
          </a:xfrm>
          <a:prstGeom prst="line">
            <a:avLst/>
          </a:prstGeom>
          <a:ln w="9360">
            <a:solidFill>
              <a:srgbClr val="316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36" name="Line 15"/>
          <p:cNvSpPr/>
          <p:nvPr/>
        </p:nvSpPr>
        <p:spPr>
          <a:xfrm>
            <a:off x="3048120" y="5257800"/>
            <a:ext cx="761760" cy="0"/>
          </a:xfrm>
          <a:prstGeom prst="line">
            <a:avLst/>
          </a:prstGeom>
          <a:ln w="9360">
            <a:solidFill>
              <a:srgbClr val="316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37" name="Text Box 16"/>
          <p:cNvSpPr/>
          <p:nvPr/>
        </p:nvSpPr>
        <p:spPr>
          <a:xfrm>
            <a:off x="2515680" y="510552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612d"/>
                </a:solidFill>
                <a:latin typeface="Times New Roman"/>
              </a:rPr>
              <a:t>4in</a:t>
            </a: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38" name="Text Box 17"/>
          <p:cNvSpPr/>
          <p:nvPr/>
        </p:nvSpPr>
        <p:spPr>
          <a:xfrm>
            <a:off x="5318280" y="303228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612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39" name="Text Box 18"/>
          <p:cNvSpPr/>
          <p:nvPr/>
        </p:nvSpPr>
        <p:spPr>
          <a:xfrm>
            <a:off x="4114800" y="1600200"/>
            <a:ext cx="48229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1612d"/>
                </a:solidFill>
                <a:latin typeface="Times New Roman"/>
              </a:rPr>
              <a:t>Area of the square is</a:t>
            </a:r>
            <a:endParaRPr b="0" lang="en-US" sz="4000" spc="-1" strike="noStrike">
              <a:solidFill>
                <a:srgbClr val="31612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1612d"/>
                </a:solidFill>
                <a:latin typeface="Times New Roman"/>
              </a:rPr>
              <a:t>4 times 4 or 16 sq. in.</a:t>
            </a:r>
            <a:endParaRPr b="0" lang="en-US" sz="4000" spc="-1" strike="noStrike">
              <a:solidFill>
                <a:srgbClr val="31612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1612d"/>
                </a:solidFill>
                <a:latin typeface="Times New Roman"/>
              </a:rPr>
              <a:t>Area of the </a:t>
            </a:r>
            <a:r>
              <a:rPr b="0" lang="en-US" sz="4000" spc="-1" strike="noStrike">
                <a:solidFill>
                  <a:srgbClr val="8b1003"/>
                </a:solidFill>
                <a:latin typeface="Times New Roman"/>
              </a:rPr>
              <a:t>triangle</a:t>
            </a:r>
            <a:r>
              <a:rPr b="0" lang="en-US" sz="4000" spc="-1" strike="noStrike">
                <a:solidFill>
                  <a:srgbClr val="31612d"/>
                </a:solidFill>
                <a:latin typeface="Times New Roman"/>
              </a:rPr>
              <a:t> is one-half 16, or 8 sq.in.</a:t>
            </a:r>
            <a:endParaRPr b="0" lang="en-US" sz="4000" spc="-1" strike="noStrike">
              <a:solidFill>
                <a:srgbClr val="31612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1612d"/>
                </a:solidFill>
                <a:latin typeface="Times New Roman"/>
              </a:rPr>
              <a:t>A = 1/2 bh</a:t>
            </a:r>
            <a:endParaRPr b="0" lang="en-US" sz="4000" spc="-1" strike="noStrike">
              <a:solidFill>
                <a:srgbClr val="31612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1612d"/>
                </a:solidFill>
                <a:latin typeface="Times New Roman"/>
              </a:rPr>
              <a:t>A = 1/2 (4)(4)</a:t>
            </a:r>
            <a:endParaRPr b="0" lang="en-US" sz="4000" spc="-1" strike="noStrike">
              <a:solidFill>
                <a:srgbClr val="31612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1612d"/>
                </a:solidFill>
                <a:latin typeface="Times New Roman"/>
              </a:rPr>
              <a:t>A = 8 sq. in.</a:t>
            </a:r>
            <a:endParaRPr b="0" lang="en-US" sz="4000" spc="-1" strike="noStrike">
              <a:solidFill>
                <a:srgbClr val="31612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612d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76320" y="91800"/>
            <a:ext cx="90676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10301"/>
                </a:solidFill>
                <a:latin typeface="Arial Black"/>
              </a:rPr>
              <a:t>Perimeter</a:t>
            </a:r>
            <a:endParaRPr b="1" lang="en-US" sz="70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1612d"/>
                </a:solidFill>
                <a:latin typeface="Arial"/>
              </a:rPr>
              <a:t>The sum of the   lengths of </a:t>
            </a:r>
            <a:r>
              <a:rPr b="0" lang="en-US" sz="6500" spc="-1" strike="noStrike" u="sng">
                <a:solidFill>
                  <a:srgbClr val="31612d"/>
                </a:solidFill>
                <a:uFillTx/>
                <a:latin typeface="Arial"/>
              </a:rPr>
              <a:t>all</a:t>
            </a:r>
            <a:r>
              <a:rPr b="0" lang="en-US" sz="6500" spc="-1" strike="noStrike">
                <a:solidFill>
                  <a:srgbClr val="31612d"/>
                </a:solidFill>
                <a:latin typeface="Arial"/>
              </a:rPr>
              <a:t> sides of the figure</a:t>
            </a:r>
            <a:endParaRPr b="0" lang="en-US" sz="6500" spc="-1" strike="noStrike">
              <a:solidFill>
                <a:srgbClr val="31612d"/>
              </a:solidFill>
              <a:latin typeface="Arial"/>
            </a:endParaRPr>
          </a:p>
          <a:p>
            <a:pPr marL="343080"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31612d"/>
              </a:solidFill>
              <a:latin typeface="Arial"/>
            </a:endParaRPr>
          </a:p>
          <a:p>
            <a:pPr marL="343080"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31612d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76320" y="91800"/>
            <a:ext cx="90676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10301"/>
                </a:solidFill>
                <a:latin typeface="Arial Black"/>
              </a:rPr>
              <a:t>Area</a:t>
            </a:r>
            <a:endParaRPr b="1" lang="en-US" sz="70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1612d"/>
                </a:solidFill>
                <a:latin typeface="Arial"/>
              </a:rPr>
              <a:t>The number of  square units inside a figure</a:t>
            </a:r>
            <a:endParaRPr b="0" lang="en-US" sz="6500" spc="-1" strike="noStrike">
              <a:solidFill>
                <a:srgbClr val="31612d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6320" y="91800"/>
            <a:ext cx="9067680" cy="615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010301"/>
                </a:solidFill>
                <a:latin typeface="Arial Black"/>
              </a:rPr>
              <a:t>Calculating </a:t>
            </a:r>
            <a:br>
              <a:rPr sz="9000"/>
            </a:br>
            <a:r>
              <a:rPr b="1" lang="en-US" sz="9000" spc="-1" strike="noStrike">
                <a:solidFill>
                  <a:srgbClr val="010301"/>
                </a:solidFill>
                <a:latin typeface="Arial Black"/>
              </a:rPr>
              <a:t>Area</a:t>
            </a:r>
            <a:endParaRPr b="1" lang="en-US" sz="9000" spc="-1" strike="noStrike">
              <a:solidFill>
                <a:srgbClr val="31612d"/>
              </a:solidFill>
              <a:latin typeface="Arial Black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3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3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76320" y="91800"/>
            <a:ext cx="90676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10301"/>
                </a:solidFill>
                <a:latin typeface="Arial Black"/>
              </a:rPr>
              <a:t>Area</a:t>
            </a:r>
            <a:endParaRPr b="1" lang="en-US" sz="70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391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1612d"/>
                </a:solidFill>
                <a:latin typeface="Arial"/>
              </a:rPr>
              <a:t>Abbreviations:</a:t>
            </a:r>
            <a:endParaRPr b="0" lang="en-US" sz="4000" spc="-1" strike="noStrike">
              <a:solidFill>
                <a:srgbClr val="31612d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1612d"/>
                </a:solidFill>
                <a:latin typeface="Arial"/>
              </a:rPr>
              <a:t>A = Area</a:t>
            </a:r>
            <a:endParaRPr b="0" lang="en-US" sz="4000" spc="-1" strike="noStrike">
              <a:solidFill>
                <a:srgbClr val="31612d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1612d"/>
                </a:solidFill>
                <a:latin typeface="Arial"/>
              </a:rPr>
              <a:t>l=length</a:t>
            </a:r>
            <a:endParaRPr b="0" lang="en-US" sz="4000" spc="-1" strike="noStrike">
              <a:solidFill>
                <a:srgbClr val="31612d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1612d"/>
                </a:solidFill>
                <a:latin typeface="Arial"/>
              </a:rPr>
              <a:t>w=width</a:t>
            </a:r>
            <a:endParaRPr b="0" lang="en-US" sz="4000" spc="-1" strike="noStrike">
              <a:solidFill>
                <a:srgbClr val="31612d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1612d"/>
                </a:solidFill>
                <a:latin typeface="Arial"/>
              </a:rPr>
              <a:t>b = base</a:t>
            </a:r>
            <a:endParaRPr b="0" lang="en-US" sz="4000" spc="-1" strike="noStrike">
              <a:solidFill>
                <a:srgbClr val="31612d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1612d"/>
                </a:solidFill>
                <a:latin typeface="Arial"/>
              </a:rPr>
              <a:t>h = height </a:t>
            </a:r>
            <a:endParaRPr b="0" lang="en-US" sz="4000" spc="-1" strike="noStrike">
              <a:solidFill>
                <a:srgbClr val="31612d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3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3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300" fill="hold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300" fill="hold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300" fill="hold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300" fill="hold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300" fill="hold"/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300" fill="hold"/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300" fill="hold"/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612d"/>
                </a:solidFill>
                <a:latin typeface="Arial Black"/>
              </a:rPr>
              <a:t>AREA MEASUREMENT</a:t>
            </a: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We measure area in square inches.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ollow up each of your measurements with the following abbreviation: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1612d"/>
                </a:solidFill>
                <a:latin typeface="Arial"/>
              </a:rPr>
              <a:t>25 </a:t>
            </a:r>
            <a:r>
              <a:rPr b="0" lang="en-US" sz="5000" spc="-1" strike="noStrike">
                <a:solidFill>
                  <a:srgbClr val="ff0000"/>
                </a:solidFill>
                <a:latin typeface="Arial"/>
              </a:rPr>
              <a:t>Sq. in </a:t>
            </a:r>
            <a:endParaRPr b="0" lang="en-US" sz="5000" spc="-1" strike="noStrike">
              <a:solidFill>
                <a:srgbClr val="31612d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76320" y="91800"/>
            <a:ext cx="90676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10301"/>
                </a:solidFill>
                <a:latin typeface="Arial Black"/>
              </a:rPr>
              <a:t>Rectangle</a:t>
            </a:r>
            <a:endParaRPr b="1" lang="en-US" sz="70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1612d"/>
                </a:solidFill>
                <a:latin typeface="Arial"/>
              </a:rPr>
              <a:t>To find the area multiply the length times the width</a:t>
            </a:r>
            <a:endParaRPr b="0" lang="en-US" sz="6500" spc="-1" strike="noStrike">
              <a:solidFill>
                <a:srgbClr val="31612d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91800"/>
            <a:ext cx="90676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10301"/>
                </a:solidFill>
                <a:latin typeface="Arial Black"/>
              </a:rPr>
              <a:t>Rectangle</a:t>
            </a:r>
            <a:endParaRPr b="1" lang="en-US" sz="70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31612d"/>
              </a:solidFill>
              <a:latin typeface="Arial"/>
            </a:endParaRPr>
          </a:p>
          <a:p>
            <a:pPr marL="343080"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31612d"/>
                </a:solidFill>
                <a:latin typeface="Arial"/>
              </a:rPr>
              <a:t>A = lw</a:t>
            </a:r>
            <a:endParaRPr b="0" lang="en-US" sz="10000" spc="-1" strike="noStrike">
              <a:solidFill>
                <a:srgbClr val="31612d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6320" y="91800"/>
            <a:ext cx="90676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10301"/>
                </a:solidFill>
                <a:latin typeface="Arial Black"/>
              </a:rPr>
              <a:t>Parallelogram</a:t>
            </a:r>
            <a:endParaRPr b="1" lang="en-US" sz="70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9360">
            <a:solidFill>
              <a:srgbClr val="010301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1612d"/>
                </a:solidFill>
                <a:latin typeface="Arial"/>
              </a:rPr>
              <a:t>Draw a rectangle on graph paper. Cut off a </a:t>
            </a:r>
            <a:r>
              <a:rPr b="0" lang="en-US" sz="5500" spc="-1" strike="noStrike">
                <a:solidFill>
                  <a:srgbClr val="31612d"/>
                </a:solidFill>
                <a:latin typeface="Arial"/>
              </a:rPr>
              <a:t>triangle</a:t>
            </a:r>
            <a:r>
              <a:rPr b="0" lang="en-US" sz="6500" spc="-1" strike="noStrike">
                <a:solidFill>
                  <a:srgbClr val="31612d"/>
                </a:solidFill>
                <a:latin typeface="Arial"/>
              </a:rPr>
              <a:t> on one side and add it to the other. </a:t>
            </a:r>
            <a:endParaRPr b="0" lang="en-US" sz="6500" spc="-1" strike="noStrike">
              <a:solidFill>
                <a:srgbClr val="31612d"/>
              </a:solidFill>
              <a:latin typeface="Arial"/>
            </a:endParaRPr>
          </a:p>
          <a:p>
            <a:pPr marL="343080"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16" name="Rectangle 6"/>
          <p:cNvSpPr/>
          <p:nvPr/>
        </p:nvSpPr>
        <p:spPr>
          <a:xfrm>
            <a:off x="838080" y="5791320"/>
            <a:ext cx="1905120" cy="914400"/>
          </a:xfrm>
          <a:prstGeom prst="rect">
            <a:avLst/>
          </a:prstGeom>
          <a:solidFill>
            <a:srgbClr val="4a8a5b"/>
          </a:solidFill>
          <a:ln w="9360">
            <a:solidFill>
              <a:srgbClr val="316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17" name="Rectangle 9"/>
          <p:cNvSpPr/>
          <p:nvPr/>
        </p:nvSpPr>
        <p:spPr>
          <a:xfrm>
            <a:off x="3581280" y="5791320"/>
            <a:ext cx="1905120" cy="914400"/>
          </a:xfrm>
          <a:prstGeom prst="rect">
            <a:avLst/>
          </a:prstGeom>
          <a:solidFill>
            <a:srgbClr val="4a8a5b"/>
          </a:solidFill>
          <a:ln w="9360">
            <a:solidFill>
              <a:srgbClr val="316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18" name="Line 10"/>
          <p:cNvSpPr/>
          <p:nvPr/>
        </p:nvSpPr>
        <p:spPr>
          <a:xfrm flipV="1">
            <a:off x="3581280" y="5791320"/>
            <a:ext cx="609840" cy="914400"/>
          </a:xfrm>
          <a:prstGeom prst="line">
            <a:avLst/>
          </a:prstGeom>
          <a:ln w="9360">
            <a:solidFill>
              <a:srgbClr val="8b10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19" name="Line 11"/>
          <p:cNvSpPr/>
          <p:nvPr/>
        </p:nvSpPr>
        <p:spPr>
          <a:xfrm flipV="1">
            <a:off x="5486400" y="5791320"/>
            <a:ext cx="609480" cy="914400"/>
          </a:xfrm>
          <a:prstGeom prst="line">
            <a:avLst/>
          </a:prstGeom>
          <a:ln w="9360">
            <a:solidFill>
              <a:srgbClr val="8b10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20" name="Line 12"/>
          <p:cNvSpPr/>
          <p:nvPr/>
        </p:nvSpPr>
        <p:spPr>
          <a:xfrm>
            <a:off x="5486400" y="5791320"/>
            <a:ext cx="609480" cy="0"/>
          </a:xfrm>
          <a:prstGeom prst="line">
            <a:avLst/>
          </a:prstGeom>
          <a:ln w="9360">
            <a:solidFill>
              <a:srgbClr val="316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21" name="AutoShape 13"/>
          <p:cNvSpPr/>
          <p:nvPr/>
        </p:nvSpPr>
        <p:spPr>
          <a:xfrm>
            <a:off x="6324480" y="5791320"/>
            <a:ext cx="2514600" cy="914400"/>
          </a:xfrm>
          <a:prstGeom prst="parallelogram">
            <a:avLst>
              <a:gd name="adj" fmla="val 68750"/>
            </a:avLst>
          </a:prstGeom>
          <a:solidFill>
            <a:srgbClr val="4a8a5b"/>
          </a:solidFill>
          <a:ln w="9360">
            <a:solidFill>
              <a:srgbClr val="316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22" name="Text Box 14"/>
          <p:cNvSpPr/>
          <p:nvPr/>
        </p:nvSpPr>
        <p:spPr>
          <a:xfrm>
            <a:off x="595440" y="5394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612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23" name="Text Box 15"/>
          <p:cNvSpPr/>
          <p:nvPr/>
        </p:nvSpPr>
        <p:spPr>
          <a:xfrm>
            <a:off x="3278520" y="5486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612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24" name="Text Box 16"/>
          <p:cNvSpPr/>
          <p:nvPr/>
        </p:nvSpPr>
        <p:spPr>
          <a:xfrm>
            <a:off x="6631200" y="5486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612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4-02-17T17:17:42Z</dcterms:created>
  <dc:creator>NNPS</dc:creator>
  <dc:description/>
  <dc:language>en-US</dc:language>
  <cp:lastModifiedBy>ashleigh.stone Stone</cp:lastModifiedBy>
  <cp:lastPrinted>2012-02-01T21:38:11Z</cp:lastPrinted>
  <dcterms:modified xsi:type="dcterms:W3CDTF">2012-02-01T21:38:25Z</dcterms:modified>
  <cp:revision>8</cp:revision>
  <dc:subject/>
  <dc:title>Area and Perimeter</dc:title>
</cp:coreProperties>
</file>